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8.gif" ContentType="image/gif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14DB-7B61-41D5-A526-F5C3F73A4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71C6-309C-4822-97C6-88EFD25AD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fdc/welcome_mjx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4D14-A0CD-4FB7-8F40-47E69276A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IIIC3Causes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07B9-FB0F-471B-B95D-B3EC07D77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nareplicationshm.wikispaces.com/Replication+Mal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:  usually errors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mutations caused by: radiation, cigarette smok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0664-2ACF-4294-B827-112EBD84C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968C-EE6C-4A5A-9D9D-24DB240D7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arolguze.com/text/442-2-mutations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0827-4C7D-4947-AC26-2F944A364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ysticfibrosis.ca/about-cf/what-is-cystic-fibro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809A-10C6-4DF3-8870-E98F819B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arn.genetics.utah.edu/content/disorders/singlegene/sicklecel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scienceinschool.org/2010/issue14/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AA8E-2040-4D97-B934-EA5BEFC3C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E68B-6D71-4119-9019-86AE516C0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unnynj.com/lactose-intolerance-milk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milk.procon.org/view.resource.php?resourceID=0006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2E85-FEF9-4204-8C50-38EE306A9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shot from: http://milk.procon.org/view.resource.php?resourceID=0006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939F-687E-4E82-8CEC-E26E5037C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3152-363E-4279-85E1-812BF8BC9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wise-everythinghealth.blogspot.ca/2011/03/lifesaving-antibiotics-losing-power-du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cell.sio2.be/moyens/images/acetabulari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3CE1-7829-4A0C-8ABE-D2139EB04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right: http://uoitbiology12u2014.weebly.com/uploads/2/5/8/3/25832527/2416889.png?4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left from: https://commons.wikimedia.org/wiki/File:Acetabularia_Schema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AF88-0B8A-435E-A5CE-A0627CC0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ehistoryblog.com/archives/251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1988-3227-4E02-AAB2-102808317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3F54-66C2-4AE6-A28D-9306E7B9E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9770-0AC0-4B59-AA62-7EC5150C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narnanews.blogspot.ca/2013/04/what-is-three-parts-of-nucleot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0491-90FC-48F1-98BA-EDA8C8006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gacy.hopkinsville.kctcs.edu/instructors/Jason-Arnold/VLI/VLI/VLI818/M1SCINCE%20BIOCHEMMOLCULES/Modules/m1chem/m1chem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4685-4C52-408F-AAF4-C6CCF07C7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vulgaire.com/dna-mut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324-07A8-4630-B797-46B28EF9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A92-DAA3-4B03-88FD-5DE76689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D02-CCD5-43F2-BDCD-291F33C1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CE5-021D-4E08-A6A7-BFD6FB76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440-E3E4-4193-8F25-BA7C9713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82F-2CE5-42BB-A75A-71BE8882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A45-2BB3-4921-9CD6-3FB54D30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089-9CA8-4EC3-81B8-27FC7BAE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B07-E66E-4911-B84C-F33A1D92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596-2560-4F76-BCAA-0690D26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067-5FCA-427E-9E0D-D98FA30B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A2E-F77A-493E-A5BC-2926EC74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9805-F1B0-4CC0-9D75-2D8B8DB64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The Code of Lif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mu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in the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dna-mutation"/>
          <p:cNvPicPr/>
          <p:nvPr/>
        </p:nvPicPr>
        <p:blipFill>
          <a:blip r:embed="rId1"/>
          <a:stretch/>
        </p:blipFill>
        <p:spPr>
          <a:xfrm>
            <a:off x="685800" y="2681280"/>
            <a:ext cx="78487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cause mut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NA_UV_mutation"/>
          <p:cNvPicPr/>
          <p:nvPr/>
        </p:nvPicPr>
        <p:blipFill>
          <a:blip r:embed="rId1"/>
          <a:stretch/>
        </p:blipFill>
        <p:spPr>
          <a:xfrm>
            <a:off x="3886200" y="2244600"/>
            <a:ext cx="46483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bstitutions, insertions, dele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soma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ndisjunction; large-scale deletions, insertions, inversions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utations"/>
          <p:cNvPicPr/>
          <p:nvPr/>
        </p:nvPicPr>
        <p:blipFill>
          <a:blip r:embed="rId1"/>
          <a:stretch/>
        </p:blipFill>
        <p:spPr>
          <a:xfrm>
            <a:off x="685800" y="1044720"/>
            <a:ext cx="77724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mutations of CFTR gene (on chromosome 7) cause cystic fibr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AboutCF-Chart-ENG2-300x262"/>
          <p:cNvPicPr/>
          <p:nvPr/>
        </p:nvPicPr>
        <p:blipFill>
          <a:blip r:embed="rId1"/>
          <a:stretch/>
        </p:blipFill>
        <p:spPr>
          <a:xfrm>
            <a:off x="4495680" y="2179800"/>
            <a:ext cx="43434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d by a single point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sicklecell"/>
          <p:cNvPicPr/>
          <p:nvPr/>
        </p:nvPicPr>
        <p:blipFill>
          <a:blip r:embed="rId1"/>
          <a:stretch/>
        </p:blipFill>
        <p:spPr>
          <a:xfrm>
            <a:off x="5108400" y="1523880"/>
            <a:ext cx="2737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aria &amp; 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10" descr="issue14evolution7_large.jpg"/>
          <p:cNvPicPr/>
          <p:nvPr/>
        </p:nvPicPr>
        <p:blipFill>
          <a:blip r:embed="rId1"/>
          <a:srcRect l="1868" t="0" r="1868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ose In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lact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ue to a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is on chromosome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actose+by+Jessie"/>
          <p:cNvPicPr/>
          <p:nvPr/>
        </p:nvPicPr>
        <p:blipFill>
          <a:blip r:embed="rId1"/>
          <a:stretch/>
        </p:blipFill>
        <p:spPr>
          <a:xfrm>
            <a:off x="4191120" y="2108160"/>
            <a:ext cx="4572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65% of adults decrease the production of the enzyme lactase after weaning, i.e. they become lact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oler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ound at higher frequencies in Europeans, and some African, Middle Eastern and South Asian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6" descr="Screen Shot 2016-10-20 at 11.31.16 PM.png"/>
          <p:cNvPicPr/>
          <p:nvPr/>
        </p:nvPicPr>
        <p:blipFill>
          <a:blip r:embed="rId1"/>
          <a:srcRect l="0" t="-11162" r="0" b="-11162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&amp; Function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cientists were involved in determining the function of DNA, isolating it, and determining it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can be helpful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resistance"/>
          <p:cNvPicPr/>
          <p:nvPr/>
        </p:nvPicPr>
        <p:blipFill>
          <a:blip r:embed="rId1"/>
          <a:stretch/>
        </p:blipFill>
        <p:spPr>
          <a:xfrm>
            <a:off x="685800" y="2655720"/>
            <a:ext cx="77724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chim Hammer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ish b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experiment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large single-celled alga in the 19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5" descr="acetabularia.jpg"/>
          <p:cNvPicPr/>
          <p:nvPr/>
        </p:nvPicPr>
        <p:blipFill>
          <a:blip r:embed="rId1"/>
          <a:srcRect l="7175" t="0" r="7175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mer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6" descr="2416889.png"/>
          <p:cNvPicPr/>
          <p:nvPr/>
        </p:nvPicPr>
        <p:blipFill>
          <a:blip r:embed="rId1"/>
          <a:srcRect l="-6548" t="0" r="-6548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7" descr="177px-Acetabularia_Schema.svg.png"/>
          <p:cNvPicPr/>
          <p:nvPr/>
        </p:nvPicPr>
        <p:blipFill>
          <a:blip r:embed="rId2"/>
          <a:srcRect l="0" t="-17274" r="0" b="-17274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son &amp; C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53, James Watson and Francis Crick proposed a model of DNA with a double helix and 2 anti-parallel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6" descr="Watson-Crick-DNA-model-200x200.jpg"/>
          <p:cNvPicPr/>
          <p:nvPr/>
        </p:nvPicPr>
        <p:blipFill>
          <a:blip r:embed="rId1"/>
          <a:srcRect l="0" t="-3987" r="0" b="-398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oublehelix"/>
          <p:cNvPicPr/>
          <p:nvPr/>
        </p:nvPicPr>
        <p:blipFill>
          <a:blip r:embed="rId1"/>
          <a:stretch/>
        </p:blipFill>
        <p:spPr>
          <a:xfrm>
            <a:off x="2131920" y="1600200"/>
            <a:ext cx="480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hree parts of nucleotide"/>
          <p:cNvPicPr/>
          <p:nvPr/>
        </p:nvPicPr>
        <p:blipFill>
          <a:blip r:embed="rId1"/>
          <a:stretch/>
        </p:blipFill>
        <p:spPr>
          <a:xfrm>
            <a:off x="1895400" y="1981080"/>
            <a:ext cx="535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3-20b_dna_and_rna_stru_c"/>
          <p:cNvPicPr/>
          <p:nvPr/>
        </p:nvPicPr>
        <p:blipFill>
          <a:blip r:embed="rId1"/>
          <a:stretch/>
        </p:blipFill>
        <p:spPr>
          <a:xfrm>
            <a:off x="1492200" y="1600200"/>
            <a:ext cx="615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at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6-10-21T03:42:56Z</dcterms:modified>
  <cp:revision>179</cp:revision>
  <dc:subject/>
  <dc:title>Molecular Genetics</dc:title>
</cp:coreProperties>
</file>